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6.png" ContentType="image/png"/>
  <Override PartName="/ppt/media/image10.jpeg" ContentType="image/jpeg"/>
  <Override PartName="/ppt/media/image2.gif" ContentType="image/gif"/>
  <Override PartName="/ppt/media/image11.png" ContentType="image/png"/>
  <Override PartName="/ppt/media/image19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64AF-F067-4003-ACBF-B5F409CD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9E6D-1EFF-4816-A2C6-9C850293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B736-9442-4DD0-83CC-A28BB1E2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BFAC-9D54-48C2-96B7-CF44C394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0D24-CEF9-4433-B93C-C2DBC09D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EFBB-7C77-4E86-8CD3-596F8BE8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CEEE-14E5-41BD-939C-B1EA56C3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73E6-A773-40B9-8097-E3F55B75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6614-2E72-486B-B204-863D377B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F5F3-3B4F-4FF1-8797-8F5B9303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6D79-DEF0-43EC-9E43-A14CF746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DF6E-2659-46CE-B6E9-BB12275A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97D1-4460-4043-A0BC-0A4DD3F1F20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ako se svjetlost odbija od zakrivljenih zrca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b) predmet je na dvostrukoj žarišnoj daljini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dubljenog zrcal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684360" y="1749600"/>
            <a:ext cx="5530680" cy="455904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6875640" y="2492280"/>
            <a:ext cx="172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lika je obrnuta, i stvarna, te po veličini jednaka predme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c) Predmet je između središta zakrivljenosti i žariš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5365800" cy="410220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6875640" y="2492280"/>
            <a:ext cx="172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lika je obrnuta, stvarna i uveća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ontent Placeholder 3" descr="SnapShot(669).jpg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d) predmet je u u žarištu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5724360" cy="400716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6875640" y="2492280"/>
            <a:ext cx="172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lika je u beskona-čnos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e) Predmet je bliže od žariš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6599160" cy="4500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7020000" y="2781360"/>
            <a:ext cx="172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lika je uspravna, prividna i uveća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3" descr="SnapShot(666).jpg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bočeno zrcal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da paralelan svjetlosni snop upadne na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zbočeno (konveksno) zrcalo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ono ga odbija tako da se snop šir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Žarište izbočenog zrcala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alazi se iza zrca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293_b.tif"/>
          <p:cNvPicPr/>
          <p:nvPr/>
        </p:nvPicPr>
        <p:blipFill>
          <a:blip r:embed="rId3"/>
          <a:stretch/>
        </p:blipFill>
        <p:spPr>
          <a:xfrm>
            <a:off x="3276720" y="4005360"/>
            <a:ext cx="28731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Slika u izbočenom zrcal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va slika nastaj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zbočeno (konveksno) zrcalo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tvara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ividnu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spravnu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manjenu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sliku predme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4284720" y="2276640"/>
            <a:ext cx="4678200" cy="38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3" descr="SnapShot(377).jpg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krivljena (sferna) zrcala su dijelovi kugline plohe i mogu biti udubljena ili izboče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zakrivljeno zrca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se usporedni svjetlosni snopovi odbijaju od zakrivljenog zrcal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3" descr="SnapShot(664).jpg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3419640" y="3141720"/>
            <a:ext cx="5486400" cy="308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SnapShot(665).jpg"/>
          <p:cNvPicPr/>
          <p:nvPr/>
        </p:nvPicPr>
        <p:blipFill>
          <a:blip r:embed="rId2"/>
          <a:srcRect l="394" t="7699" r="2756" b="4549"/>
          <a:stretch/>
        </p:blipFill>
        <p:spPr>
          <a:xfrm>
            <a:off x="250920" y="981000"/>
            <a:ext cx="53146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da se izvor svjetlosti smjesti u žarište udubljenog zrcala odbijene zrake su paralel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da svjetlost upada na udubljeno zrcalo u paralelnom snopu, odbija se tako da se skuplja u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žarištu (fokusu) F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rca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292_a.tif"/>
          <p:cNvPicPr/>
          <p:nvPr/>
        </p:nvPicPr>
        <p:blipFill>
          <a:blip r:embed="rId3"/>
          <a:stretch/>
        </p:blipFill>
        <p:spPr>
          <a:xfrm>
            <a:off x="5570640" y="3387600"/>
            <a:ext cx="324936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Slika u udubljenom zrcal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1700280"/>
            <a:ext cx="84960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Koje su karakteristične točke zakrivljenog zrcal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točka C = 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središte zakrivljenosti zrcal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točka T  =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 tjeme zrcal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dužina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CT =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 polumjer </a:t>
            </a:r>
            <a:r>
              <a:rPr b="1" i="1" lang="hr-HR" sz="3000" spc="-1" strike="noStrike">
                <a:solidFill>
                  <a:srgbClr val="000000"/>
                </a:solidFill>
                <a:latin typeface="Calibri"/>
              </a:rPr>
              <a:t>r zrcal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optička os zrcala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= pravac na kojem leže točke C i 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vi-VN" sz="3000" spc="-1" strike="noStrike">
                <a:solidFill>
                  <a:srgbClr val="000000"/>
                </a:solidFill>
                <a:latin typeface="Calibri"/>
              </a:rPr>
              <a:t>Žarište F </a:t>
            </a:r>
            <a:r>
              <a:rPr b="0" lang="vi-VN" sz="3000" spc="-1" strike="noStrike">
                <a:solidFill>
                  <a:srgbClr val="000000"/>
                </a:solidFill>
                <a:latin typeface="Calibri"/>
              </a:rPr>
              <a:t>zakrivljenog zrcala nalazi se na polovini udaljenosti između središta zakrivljenosti i tjemena zrcal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4230720" cy="4667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468360" y="2303640"/>
            <a:ext cx="331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daljenost žarišta od tjemena jest žarišna daljina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a j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1042920" y="4581360"/>
            <a:ext cx="152424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rakteristične zrake sfernog zrcal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raka koja upada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aralelno s optičkom osi zrcala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kon odbijanja prolazi kroz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žarište F zrcal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raka koja prolaz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žarištem F zrcala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dbija se od zrcala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aralelno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 optičkom os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raka koja prolaz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redištem zrcala C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kon odbijanja vraća se kroz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redište zakrivljenosti zrca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) Predmet je udaljeniji od točke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23880" y="1913040"/>
            <a:ext cx="5676840" cy="43243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6875640" y="2492280"/>
            <a:ext cx="172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lika je obrnuta, stvarna i umanje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SnapShot(670).jpg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16:05:40Z</dcterms:created>
  <dc:creator>Zdenko</dc:creator>
  <dc:description/>
  <dc:language>en-US</dc:language>
  <cp:lastModifiedBy>Zdenko</cp:lastModifiedBy>
  <dcterms:modified xsi:type="dcterms:W3CDTF">2014-07-18T09:15:37Z</dcterms:modified>
  <cp:revision>13</cp:revision>
  <dc:subject/>
  <dc:title>Kako se svjetlost odbija od zakrivljenih zrcala</dc:title>
</cp:coreProperties>
</file>